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6083-9476-4C6B-A74F-F6F476F4A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2F16-EAA0-49BF-985C-2DAD0064A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6226-2FCF-40D4-9BBA-E75251E6E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9895-F68E-4C24-A479-D3EF027B1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72CE-F4C9-4B7B-A84E-FEC0CD925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E0A8-E7AA-4B03-8A86-31F4651D4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FB00-6185-4EE6-8AB5-39E251BAE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3BD9-66B0-4096-8294-79BC985FC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6C40-E363-4C77-9BD2-3DF965A11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78AC-9C61-4CE5-A246-D2151E58A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DE0C-310F-4234-95EA-D29B69C25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1D74-6E8F-40B5-8025-77B2B3D81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.2-</a:t>
            </a:r>
            <a:fld id="{117FA352-D12F-4628-8A82-4DB77378A6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compound tenses you have learned, the future perfec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futuro perfec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rmed with a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past participle. It is used to talk about what will have happened by some future point i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120D-BDDE-471E-8756-D8328F1FEE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976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other compound tenses, the past participle never varies in the future perfect; it always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" y="1600200"/>
            <a:ext cx="806940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9759-D269-4C34-B04C-741E324811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1360" y="1938240"/>
            <a:ext cx="7721280" cy="21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DFCE-946D-4642-8F47-CC2E2B7927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ras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ro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re used with the future perfect to talk about what will have happened by some future point i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3741840"/>
            <a:ext cx="7315200" cy="12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4535-CB48-4D7C-9D84-41360A529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560" y="15145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28760" y="2179800"/>
          <a:ext cx="8286480" cy="413532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7318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 forma apropiada del futuro perfecto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4160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sábado, nosotros _________________ (obtener) el diner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 ______ (terminar) el trabajo para cuando lleguen mis amig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ia ______ (hacer) todos los planes para el próximo fin de se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cinco de junio, ustedes ______ (llegar) a Qui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sa fecha, Ernesto y tú ______ (recibir) muchas ofert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ocho de octubre, nosotros ya ______ (llegar) a Colomb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ntonces, yo ______ (volver) de la República Dominic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cuando yo te llame, ¿tú ______ (decidir) lo que vamos a hace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las nueve, mi hermana ______ (salir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6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las ocho, tú y yo ______ (limpiar) el piso.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94240" y="302112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Comic Sans MS"/>
              </a:rPr>
              <a:t>habremos ob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5726-2927-4B1E-A47A-63A2E0B6E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9:01:39Z</dcterms:modified>
  <cp:revision>74</cp:revision>
  <dc:subject/>
  <dc:title>PowerPoint Presentation</dc:title>
</cp:coreProperties>
</file>